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043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0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68560" y="677520"/>
            <a:ext cx="4520880" cy="33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3F72-1943-4B0E-B9DF-3007CF78CA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7457-AA5D-461E-A73E-9BC93A538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288F-BD32-4821-AEFB-8FB6A62DA461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3886200" y="85899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2843-B5D8-49FC-9043-CDCBCAF14DF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77880"/>
            <a:ext cx="4520880" cy="3390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BD2-1F2C-453F-A26E-FA758311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E97-5F12-4C8D-8131-C65F9458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C59-355E-4850-8A2C-455DB556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87C-7A67-458A-AFDB-55A77F1C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0E48-894E-4590-8323-6A175DD7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DE59-4EE3-4670-B671-29CFD1F9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A536-F58A-4DE9-A961-7B779D1F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3545-96B2-47BB-8C35-E234E951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3EB6-2143-4FE6-8F54-E46B7DEA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649A-7DD7-41A5-BB24-941CA718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BB89-EF21-4797-B147-F35654FC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167-8241-49F5-B023-F4C86561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5178-FA2A-4C6A-AFE5-82733E34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060C-17BF-4893-9C35-1811FFA0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8EBA-B41A-43A0-B7EF-762EBBAD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8C58-BEF9-4023-A86C-42550BDA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8AA6-49D2-4A6B-A798-CD195065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D18-64A5-422C-B241-8E7F7E41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DD0-CA9A-4F7C-A2A1-CDFF4A6E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994-3842-40CE-8662-C6007343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6C1E-04D6-4F47-9355-4919FBCF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EC5-DF61-4DA1-A57E-79FC0167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81D-D852-4DDC-B1CA-F6D62597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9FE-9D5F-43D4-BADA-4429CD84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6649-73E1-40CE-A46D-685D3986F2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rc 3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4137-90DF-4B2F-9522-5B700635F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1219320" y="1295280"/>
            <a:ext cx="7010280" cy="3904560"/>
          </a:xfrm>
          <a:prstGeom prst="rect">
            <a:avLst/>
          </a:prstGeom>
          <a:solidFill>
            <a:srgbClr val="cecffa"/>
          </a:solidFill>
          <a:ln w="38160">
            <a:solidFill>
              <a:srgbClr val="0f12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The Quality of Life Index (QLI)</a:t>
            </a:r>
            <a:endParaRPr b="0" lang="en-US" sz="6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Social Watch Philippines Monitoring Initiatives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38080" y="457200"/>
            <a:ext cx="7391520" cy="861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Quality of Life Index (QL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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asic Capabilities Index (BC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38080" y="1828800"/>
            <a:ext cx="7315200" cy="4343400"/>
          </a:xfrm>
          <a:prstGeom prst="rect">
            <a:avLst/>
          </a:prstGeom>
          <a:solidFill>
            <a:srgbClr val="ccecff"/>
          </a:solidFill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Times New Roman"/>
                <a:ea typeface="Times New Roman"/>
              </a:rPr>
              <a:t>QLI was adopted by Social Watch International with a slight modification of the Component Indicator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1)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Under-five child mortality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2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Births attended by trained health personnel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3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Elementary Cohort Survival Rate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Verdana"/>
                <a:ea typeface="Times New Roman"/>
              </a:rPr>
              <a:t>Applied Globally and found to be applicable for significant number of countries and highly correlated to HDI, Food Security, overall Health and Educational Attainment.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&lt; 5 mortality ra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severely &amp; moderately underweight children  &lt; 5 years ol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llows the WHO weight-for-age standard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rrelated  to infant mortality, immunization coverage, access to safe water &amp; sanitary faciliti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FE EXPENCTANCY &amp; HEALTH SERVI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well-nourish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ttended Birth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liveries attended by trained health professionals – doctors, nurses and midwiv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ted  by the Field health Service Information system of the DO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pability for healthy reprodu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lementary CS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enrollees in Grade 1 who reached Grade 6 after 6 years of school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mpiled by schools, municipalities, schools divi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rong correlation with participation rate, functional literacy, achievement tests rat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DUCATION PERFORMANC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EDUCATED &amp; BE KNOWLEDGEAB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uman Devt Index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expectancy at birt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dult literac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DP per capi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QLI, Income &amp; HDI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is strongly associated with incom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measures well-being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urely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in terms of capabilit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DI combines income and basic capabilit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45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Top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47920" y="1447920"/>
          <a:ext cx="66294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6294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06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Bottom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1447920"/>
          <a:ext cx="7772400" cy="51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72400" cy="51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313160" y="0"/>
            <a:ext cx="4830840" cy="6629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hilippines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1193760" y="4114800"/>
            <a:ext cx="3378240" cy="2000160"/>
            <a:chOff x="1193760" y="4114800"/>
            <a:chExt cx="3378240" cy="2000160"/>
          </a:xfrm>
        </p:grpSpPr>
        <p:sp>
          <p:nvSpPr>
            <p:cNvPr id="146" name="Rectangle 6"/>
            <p:cNvSpPr/>
            <p:nvPr/>
          </p:nvSpPr>
          <p:spPr>
            <a:xfrm>
              <a:off x="1216440" y="4209840"/>
              <a:ext cx="638640" cy="1526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1193760" y="4572000"/>
              <a:ext cx="639000" cy="17136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1193760" y="5029200"/>
              <a:ext cx="639000" cy="17136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1193760" y="5429160"/>
              <a:ext cx="639000" cy="17136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1193760" y="5829120"/>
              <a:ext cx="639000" cy="171720"/>
            </a:xfrm>
            <a:prstGeom prst="rect">
              <a:avLst/>
            </a:prstGeom>
            <a:solidFill>
              <a:srgbClr val="bebe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2106720" y="4114800"/>
              <a:ext cx="24652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479 - 0.6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601 - 0.7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701 - 0.8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801 - 0.908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Missing data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52" name="Text Box 12"/>
          <p:cNvSpPr/>
          <p:nvPr/>
        </p:nvSpPr>
        <p:spPr>
          <a:xfrm>
            <a:off x="762120" y="380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b071d"/>
                </a:solidFill>
                <a:uFillTx/>
                <a:latin typeface="Arial Unicode MS"/>
                <a:ea typeface="Arial Unicode MS"/>
              </a:rPr>
              <a:t>National Level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541760" y="0"/>
            <a:ext cx="4602240" cy="6789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939960" y="4324320"/>
            <a:ext cx="711000" cy="171360"/>
          </a:xfrm>
          <a:prstGeom prst="rect">
            <a:avLst/>
          </a:prstGeom>
          <a:solidFill>
            <a:srgbClr val="fdf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39960" y="4667400"/>
            <a:ext cx="711000" cy="171360"/>
          </a:xfrm>
          <a:prstGeom prst="rect">
            <a:avLst/>
          </a:prstGeom>
          <a:solidFill>
            <a:srgbClr val="fec8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39960" y="5124600"/>
            <a:ext cx="711000" cy="171360"/>
          </a:xfrm>
          <a:prstGeom prst="rect">
            <a:avLst/>
          </a:prstGeom>
          <a:solidFill>
            <a:srgbClr val="feb1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939960" y="5524560"/>
            <a:ext cx="711000" cy="171360"/>
          </a:xfrm>
          <a:prstGeom prst="rect">
            <a:avLst/>
          </a:prstGeom>
          <a:solidFill>
            <a:srgbClr val="ff9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939960" y="5924520"/>
            <a:ext cx="711000" cy="171360"/>
          </a:xfrm>
          <a:prstGeom prst="rect">
            <a:avLst/>
          </a:prstGeom>
          <a:solidFill>
            <a:srgbClr val="be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946240" y="3828960"/>
            <a:ext cx="2133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854360" y="4267080"/>
            <a:ext cx="294624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532 - 0.6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601 - 0.7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701 - 0.8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801 - 0.642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Missing data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762120" y="25905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col Region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-270720" y="304920"/>
            <a:ext cx="576324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Region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143000" y="1981080"/>
            <a:ext cx="7391520" cy="82548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fd7ff"/>
                </a:solidFill>
                <a:uFillTx/>
                <a:latin typeface="Comic Sans MS"/>
              </a:rPr>
              <a:t>Locating the Role of MONITORING in the Advocacy Work of Social Watch Philippines…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14300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04de"/>
                </a:solidFill>
                <a:uFillTx/>
                <a:latin typeface="Arial Unicode MS"/>
              </a:rPr>
              <a:t>Monitoring…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1676520" y="3581280"/>
            <a:ext cx="4038480" cy="749160"/>
            <a:chOff x="1676520" y="3581280"/>
            <a:chExt cx="4038480" cy="749160"/>
          </a:xfrm>
        </p:grpSpPr>
        <p:sp>
          <p:nvSpPr>
            <p:cNvPr id="97" name="Rectangle 7"/>
            <p:cNvSpPr/>
            <p:nvPr/>
          </p:nvSpPr>
          <p:spPr>
            <a:xfrm>
              <a:off x="2362320" y="38098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40ca8"/>
                  </a:solidFill>
                  <a:uFillTx/>
                  <a:latin typeface="Arial Unicode MS"/>
                </a:rPr>
                <a:t>Engagement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98" name="AutoShape 8"/>
            <p:cNvSpPr/>
            <p:nvPr/>
          </p:nvSpPr>
          <p:spPr>
            <a:xfrm>
              <a:off x="1676520" y="35812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3276720" y="4267080"/>
            <a:ext cx="5105160" cy="673200"/>
            <a:chOff x="3276720" y="4267080"/>
            <a:chExt cx="5105160" cy="673200"/>
          </a:xfrm>
        </p:grpSpPr>
        <p:sp>
          <p:nvSpPr>
            <p:cNvPr id="100" name="Rectangle 10"/>
            <p:cNvSpPr/>
            <p:nvPr/>
          </p:nvSpPr>
          <p:spPr>
            <a:xfrm>
              <a:off x="3962520" y="441972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30a8f"/>
                  </a:solidFill>
                  <a:uFillTx/>
                  <a:latin typeface="Arial Unicode MS"/>
                </a:rPr>
                <a:t>Influencing Policy 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1" name="AutoShape 11"/>
            <p:cNvSpPr/>
            <p:nvPr/>
          </p:nvSpPr>
          <p:spPr>
            <a:xfrm>
              <a:off x="3276720" y="42670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02" name="Group 12"/>
          <p:cNvGrpSpPr/>
          <p:nvPr/>
        </p:nvGrpSpPr>
        <p:grpSpPr>
          <a:xfrm>
            <a:off x="1066680" y="4648320"/>
            <a:ext cx="7467840" cy="1617120"/>
            <a:chOff x="1066680" y="4648320"/>
            <a:chExt cx="7467840" cy="1617120"/>
          </a:xfrm>
        </p:grpSpPr>
        <p:sp>
          <p:nvSpPr>
            <p:cNvPr id="103" name="Rectangle 13"/>
            <p:cNvSpPr/>
            <p:nvPr/>
          </p:nvSpPr>
          <p:spPr>
            <a:xfrm>
              <a:off x="1066680" y="5257800"/>
              <a:ext cx="6858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002346"/>
                  </a:solidFill>
                  <a:uFillTx/>
                  <a:latin typeface="Arial Unicode MS"/>
                </a:rPr>
                <a:t>Facilitate Participation in Development</a:t>
              </a:r>
              <a:endParaRPr b="0" lang="en-US" sz="3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4" name="AutoShape 14"/>
            <p:cNvSpPr/>
            <p:nvPr/>
          </p:nvSpPr>
          <p:spPr>
            <a:xfrm>
              <a:off x="7772400" y="4648320"/>
              <a:ext cx="762120" cy="1143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23520" y="1028880"/>
            <a:ext cx="175284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371600" y="4038480"/>
            <a:ext cx="2438280" cy="1935360"/>
            <a:chOff x="1371600" y="4038480"/>
            <a:chExt cx="2438280" cy="1935360"/>
          </a:xfrm>
        </p:grpSpPr>
        <p:sp>
          <p:nvSpPr>
            <p:cNvPr id="167" name="Text Box 5"/>
            <p:cNvSpPr/>
            <p:nvPr/>
          </p:nvSpPr>
          <p:spPr>
            <a:xfrm>
              <a:off x="2387520" y="4038480"/>
              <a:ext cx="142236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36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6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8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687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73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1371600" y="4095720"/>
              <a:ext cx="749520" cy="1220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1371600" y="4552920"/>
              <a:ext cx="749520" cy="12204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1371600" y="4952880"/>
              <a:ext cx="749520" cy="12204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1371600" y="5352840"/>
              <a:ext cx="749520" cy="12240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1371600" y="5752800"/>
              <a:ext cx="749520" cy="122400"/>
            </a:xfrm>
            <a:prstGeom prst="rect">
              <a:avLst/>
            </a:prstGeom>
            <a:solidFill>
              <a:srgbClr val="d46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73" name="Rectangle 11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74" name="Object 12"/>
          <p:cNvGraphicFramePr/>
          <p:nvPr/>
        </p:nvGraphicFramePr>
        <p:xfrm>
          <a:off x="4740120" y="1600200"/>
          <a:ext cx="440388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1600200"/>
                    <a:ext cx="440388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3"/>
          <p:cNvSpPr/>
          <p:nvPr/>
        </p:nvSpPr>
        <p:spPr>
          <a:xfrm>
            <a:off x="914400" y="25909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Guimaras, 2001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-383760" y="304920"/>
            <a:ext cx="857808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ovincial and Municip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62120" y="990720"/>
            <a:ext cx="7238880" cy="4685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Advantages of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e Index can be generated easily using indicators regularly generated by government agencies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an be computed annually without need for expensive surveys and monitoring system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pplicable and effective for both national and local level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nswers the need for data disaggregation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nsitive and highly correlated with other poverty/welfare measure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rves as an advocacy tool as it underscores the importance of human development in development planning and public investment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reas for QLI Improvemen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dicators can be modified to improve measurement sensitivity in well-being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rivatives like gender-based approach to generate QL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cycle approac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209680" y="2743200"/>
            <a:ext cx="525780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99"/>
                </a:solidFill>
                <a:latin typeface="Verdana"/>
              </a:rPr>
              <a:t>THE END</a:t>
            </a:r>
            <a:endParaRPr b="0" lang="en-US" sz="7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.   Pro-Poor Monitoring System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Measuring Progress from the Lens of the Poor and the Vulnerable)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.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Quality of Life Index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(Developing alternative Indicators that capture key aspects of Human Development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ternative Budget Initiative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Using MDG as Framework)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4.   Local Monitoring System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cking Progress and Engagement at Provincial and Municipal Level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5.   MDG Localization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nslating the the Global Goals into Local MDG Indicators, Targets, Plans and Strategie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2971800"/>
            <a:ext cx="6934320" cy="182880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1)  Income/expenditure-based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2)  Outcome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3)  Perception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438280" y="1143000"/>
            <a:ext cx="4572000" cy="1068840"/>
          </a:xfrm>
          <a:prstGeom prst="rect">
            <a:avLst/>
          </a:prstGeom>
          <a:solidFill>
            <a:srgbClr val="07f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hree Broad Categories  of Poverty Measures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7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38080" y="457200"/>
            <a:ext cx="693432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Categories of Poverty Meas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838080" y="1143000"/>
            <a:ext cx="7620120" cy="518148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Income/Expenditure-Based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fficial Poverty Statistics (based on income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ixed Level Of Living”  or FLOL (based on expenditure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World Bank’s 1$-a-day approach (PP$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 Outcome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Development Index (H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Poverty Index (HPI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Capability Poverty Measure (CPM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Development Index (G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Empowerment Measure (GEM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 Perception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x: Social Weather Stations (SW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fficial Poverty Statist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come-based approach computed from FIES dat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verty incidence computed based on the poverty threshold level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reshold level combines food and basic non-food requirements</a:t>
            </a:r>
            <a:r>
              <a:rPr b="0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ixed Level of Living Approach (FLO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veloped by A. Balisacan that is expenditure-based and sets a fixed standard of living used for provincial comparison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sing </a:t>
            </a:r>
            <a:r>
              <a:rPr b="1" i="1" lang="en-US" sz="2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LOL results to 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ower poverty incidence compared to the official approach and different regional/provincial rankings 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ne Dollar a day (PP$) Poverty Lin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orld Bank approach using the poverty line of $1 a day for international comparisons; Based on this, Philippine poverty incidence remain higher than China, Indonesia, Malaysia and Thailand but better than India’s poverty level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Text Box 2051"/>
          <p:cNvSpPr/>
          <p:nvPr/>
        </p:nvSpPr>
        <p:spPr>
          <a:xfrm>
            <a:off x="609480" y="304920"/>
            <a:ext cx="5639040" cy="587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me/Expenditure-Based</a:t>
            </a:r>
            <a:endParaRPr b="0" lang="en-US" sz="3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133720" y="1219320"/>
            <a:ext cx="5257800" cy="228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Operationalizing the Quality of Life Index (QLI)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62120" y="4419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Local Application of QLI in monitoring poverty and well-being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8080" y="457200"/>
            <a:ext cx="36576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Life Index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09480" y="1143000"/>
            <a:ext cx="7848720" cy="434340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is an alternative measure of people’s well-being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It is a derivative of the pure capability-based measure as proposed and popularized by Amartya Sen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he measure assigns equal weights to three basic capabilities: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1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to be well-nourished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800" spc="-1" strike="noStrike">
                <a:solidFill>
                  <a:srgbClr val="86001a"/>
                </a:solidFill>
                <a:latin typeface="Verdana"/>
                <a:ea typeface="Times New Roman"/>
              </a:rPr>
              <a:t>Under-five nutrition status</a:t>
            </a:r>
            <a:endParaRPr b="0" lang="en-US" sz="1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2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for healthy and safe reproduction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Births attended by trained health personne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3) Capability to be educated &amp; be knowledgeable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</a:t>
            </a: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Elementary Cohort Survival Rate</a:t>
            </a:r>
            <a:r>
              <a:rPr b="1" lang="en-US" sz="2000" spc="-1" strike="noStrike">
                <a:solidFill>
                  <a:srgbClr val="86001a"/>
                </a:solidFill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1760" y="62485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1295280"/>
            <a:ext cx="8001000" cy="3478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Main Feat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applies a pure capability-based approach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consistent with existing national and international statistical system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applicable for both national and local level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provinces, municipalities and barangays)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omplements HDI and Income-based poverty measure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6:41:46Z</dcterms:created>
  <dc:creator>Direk</dc:creator>
  <dc:description/>
  <dc:language>en-US</dc:language>
  <cp:lastModifiedBy>anaclau</cp:lastModifiedBy>
  <dcterms:modified xsi:type="dcterms:W3CDTF">2009-10-25T07:33:26Z</dcterms:modified>
  <cp:revision>81</cp:revision>
  <dc:subject/>
  <dc:title>General</dc:title>
</cp:coreProperties>
</file>